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51B5-096C-4DDE-BF52-4A8F1191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webmd.com/infertility-and-reproduction/guide/female-reproductive-system-overview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vhs.nbed.nb.ca/gallant/biology/biology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etceusnow.com/human_sexuality/pen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kvhs.nbed.nb.ca/gallant/biology/biolog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883-6DC7-4263-A06D-61FB5246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838-1D01-40CE-AFDA-A3BF952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403-82CC-4FB5-A1D6-6722DF75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29C-364B-4D64-B8A0-03E00AB2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C76-0272-4D1E-ACBD-FA2EF95E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586-706A-4829-B3EE-A80FC3B2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473-3F0F-40F9-9BEC-8F846848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E12-0E63-47D4-9E43-8F15B48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052-220C-46C2-AAC3-8EA49C0A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FC9-FDA7-4C5F-A3F9-03C2B32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88A-1B24-4735-A5B5-1B50F9DD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201-88E6-4FAC-9608-86053B2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A05B-5465-4241-B914-A2771551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re produced in different proportions by both males and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51040" y="1981080"/>
            <a:ext cx="384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73280" y="609480"/>
            <a:ext cx="3997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54280" y="609480"/>
            <a:ext cx="38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25600" y="1981080"/>
            <a:ext cx="44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3480" y="609480"/>
            <a:ext cx="5477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3-01-09T04:39:09Z</dcterms:modified>
  <cp:revision>122</cp:revision>
  <dc:subject/>
  <dc:title>Hormones that Affect Blood Sugar  &amp; Reproductive Hormones</dc:title>
</cp:coreProperties>
</file>